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19D-8926-4B0A-AD39-6DD96C61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EB0-123F-4B3B-AF33-BD82DC7A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215-7CB0-4898-B33F-521E6E12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1B0-1919-463E-BC67-7E9E23C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3AEE-ADE7-4C46-B945-81B2F771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27F6-48A0-4BBB-BC4A-A333AD4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467F-103E-48CA-A056-3EAA1005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AE89-CA4C-4EC9-9C3C-EE3AB2B1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EF4C-3ECA-4842-A151-2D67E29E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1A1-152A-45F1-87B6-EC3FDD7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AE4-F060-4D41-AE33-F9EF599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CD1-F9A5-4C16-AF93-5B684D6F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A84-EEF9-43FE-8989-FBF98E6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9A0C-8C34-4BC7-AC7F-543D24DA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202-04BA-4BD7-88A0-92D8B81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77D-C686-4A85-BFAE-40458D32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A84-B57F-47EC-AB1F-E12A669B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EED-F29D-46EE-9A43-6AEA8B63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42F-2555-4086-80F1-83F3E92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87C-9265-4B76-A9BF-741526D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00D-2C01-4229-8EAD-7B7771C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B4E-7CF6-4324-A935-3FA66E5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67B-F75F-4A67-87D1-B2ACA20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A6F-393B-43FC-BB45-7C5C16A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57A7-29B1-436A-987E-9DFDBF9B54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3BB-90B6-4464-BF4B-4F5A031F20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-Up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llama gets mad, it spits bad smelling saliva into their enemies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bsters walks around on 8 legs just as spiders 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urnal #3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something that you have never done, but want 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have you never done it?  When do you plan on doing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-Up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needs to improve their writeing and math skills because less and less jobs require mussels on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 and I discovered that before the Revolutionary War, anyone who needed money had to borrow from there friends and family, no banks exi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urnal #3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 the instructions for how to snap your fing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iday Warm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(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uickly, grudgingly, slyly, complete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so on) describe or modify verbs, adjectives, and other adverb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352680"/>
            <a:ext cx="87631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e how many adverbs you can come up with to modify the verb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approache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the following sentence.  Try to include at least ten adverbs in your li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cy ________________ approached the stran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2:52Z</dcterms:created>
  <dc:creator>tpagel</dc:creator>
  <dc:description/>
  <dc:language>en-US</dc:language>
  <cp:lastModifiedBy>tpagel</cp:lastModifiedBy>
  <dcterms:modified xsi:type="dcterms:W3CDTF">2010-06-03T17:03:29Z</dcterms:modified>
  <cp:revision>1</cp:revision>
  <dc:subject/>
  <dc:title>Warm-Up Sentences</dc:title>
</cp:coreProperties>
</file>